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28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png" ContentType="image/png"/>
  <Override PartName="/ppt/media/image11.png" ContentType="image/png"/>
  <Override PartName="/ppt/media/image48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3CB-06DA-42E6-8D38-4173BAA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CFB-D143-4912-8C15-2D254E6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DBE-0640-47F8-BEC0-5A2DE16B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D34-3D6A-437B-B386-E254A213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4D6A-4FF5-4F48-9AED-A45EA94B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0261-5BB6-4BB2-A00C-BC61A59F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8045-A2EE-411C-9F99-3CBE560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ADBA-0920-4DE4-B641-5200B8F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0CF-64D4-4B57-B074-575F5D5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8CA0-95B8-4D6D-AB01-6A7C73B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EB2-3564-4D32-9406-1383A54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FA1-5E03-40DB-939F-A149934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571B-758E-4C15-B81C-EEEB811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6A3-7A14-4AC7-AA24-88A2BC6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D8AE-9EA7-4F85-AEB9-ADA9AFC7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C0E-87A2-4A67-A8F9-8F1C772E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BA8D-5045-40B0-92E8-949DD33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4656-395A-4DD5-9B91-02BFB779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6AB7-B0D3-4D66-A43B-1183D443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4FB5-6863-4672-A6A5-AA8A31F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8A7E-53C4-4287-844C-BFFE5657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8D7C-9D43-46B4-A158-4F46ABD6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B9B-953B-4410-A61B-0EBA05CE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233D-DCB5-4F7E-BBE6-57781FB8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FE7A-C12A-440C-97FB-CD257B6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1D99-7204-4779-8C78-B92821E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DB26-A209-471C-B4EA-F51E88C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A84B-337E-410B-9752-004AD664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9894-90DD-42A2-81C6-E68BA220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2F3A-6B41-4E77-AB99-A7A18A8B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C07C-734B-4776-93A7-E949FDB8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5E67-1829-4DB6-9057-BFC818F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F074-0DAF-4F72-AB5A-FAC276E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507-DB37-44A4-8EC6-44D41B1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EB63-4490-4A2C-BEBD-FEF981D4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0F6F-B69A-47F1-A781-6BC1320D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4B13-B1AE-45BE-B6BE-E6A99D2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AF36-1784-4446-B399-F0CB462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14C9-BECC-428D-95EC-4CC7F84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D1EC-AE5C-4030-8E66-B983F19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8B8FE-F080-4313-95A0-57C1741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CF4D-AFF7-4B82-B568-E25B4D40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B4E0-EEF9-4F0F-92BD-0FB1C8A5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F1A-3DD6-4A31-8E45-C006E945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7C1-443B-4B65-B12F-5B8A338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C86-0004-439A-9EFD-D21BF62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CC7-67FC-4114-AA8C-2C0664F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F55-D806-4D25-8AEE-87C303D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5CAF-7A0A-4879-A424-7EA2CEB10B8D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16D4-BEE0-47D9-B7BE-614E0C752241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4D80-904F-4899-BDE0-1F026B00FCAC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B166-8008-4E5B-BDB2-8DB41E86C8C3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hyperlink" Target="file:///&#1091;&#1087;&#1088;&#1091;&#1075;&#1072;&#1103;%20&#1080;%20&#1085;&#1077;&#1091;&#1087;&#1088;&#1091;&#1075;&#1072;&#1103;%20&#1076;&#1077;&#1092;&#1086;&#1088;&#1084;&#1072;&#1094;&#1080;&#1103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32000" y="0"/>
            <a:ext cx="70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. Явление тяго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547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Урок физики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3997" t="1752" r="0" b="1596"/>
          <a:stretch/>
        </p:blipFill>
        <p:spPr>
          <a:xfrm>
            <a:off x="0" y="476280"/>
            <a:ext cx="1547640" cy="403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Сила воздействия на тележку"/>
          <p:cNvPicPr/>
          <p:nvPr/>
        </p:nvPicPr>
        <p:blipFill>
          <a:blip r:embed="rId2"/>
          <a:stretch/>
        </p:blipFill>
        <p:spPr>
          <a:xfrm>
            <a:off x="6084720" y="4508640"/>
            <a:ext cx="3016440" cy="241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Деформация тела при воздействии силы"/>
          <p:cNvPicPr/>
          <p:nvPr/>
        </p:nvPicPr>
        <p:blipFill>
          <a:blip r:embed="rId3"/>
          <a:stretch/>
        </p:blipFill>
        <p:spPr>
          <a:xfrm>
            <a:off x="3059280" y="4508640"/>
            <a:ext cx="3016080" cy="241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Сложение сил_ лебедь-рак-щука1"/>
          <p:cNvPicPr/>
          <p:nvPr/>
        </p:nvPicPr>
        <p:blipFill>
          <a:blip r:embed="rId4"/>
          <a:stretch/>
        </p:blipFill>
        <p:spPr>
          <a:xfrm>
            <a:off x="0" y="4508640"/>
            <a:ext cx="3016080" cy="2412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7"/>
          <p:cNvSpPr/>
          <p:nvPr/>
        </p:nvSpPr>
        <p:spPr>
          <a:xfrm>
            <a:off x="3276720" y="234936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делал, что мог, пусть другие сделают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знаю, чем я могу казаться ми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амому себе я кажусь мальч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ающим у моря, которому удалось найти более красивый камешек, чем друг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кеан неизвестного лежит передо м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аак Ньютон (1643-172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является мерой взаимодейств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, как и скорость, является векторной величиной. Она характеризуется не только числовым значением и точкой приложения, но и на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обозначается буквой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со стрелочкой, а ее модуль той же бук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без ст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великого английского ученого 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ьютона эта единица названа ньютоном (1Н). 1 кН=1000 Н, 1мН=0,00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4284720" y="2349360"/>
                <a:ext cx="398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2195640" y="4570560"/>
            <a:ext cx="53290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Спасибо за вним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2" name="Picture 3" descr="учитель"/>
          <p:cNvPicPr/>
          <p:nvPr/>
        </p:nvPicPr>
        <p:blipFill>
          <a:blip r:embed="rId2"/>
          <a:stretch/>
        </p:blipFill>
        <p:spPr>
          <a:xfrm>
            <a:off x="395280" y="2924280"/>
            <a:ext cx="3203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755640" y="0"/>
            <a:ext cx="2592360" cy="2073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0" y="191628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вагонетки меняется под действием рук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6156360" y="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5219640" y="1773360"/>
            <a:ext cx="39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и направление движения теннисного шарика меняется при взаимодействии с раке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724720" cy="1906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35280" y="55897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а, действующая на тело, может не только изменить скорость всего тела, но и отдельных его частей (в таких случаях говорят, что тела </a:t>
            </a:r>
            <a:r>
              <a:rPr b="0" lang="ru-RU" sz="1600" spc="-1" strike="noStrike" u="sng">
                <a:solidFill>
                  <a:srgbClr val="408080"/>
                </a:solidFill>
                <a:uFillTx/>
                <a:latin typeface="Times New Roman"/>
                <a:hlinkClick r:id="rId4"/>
              </a:rPr>
              <a:t>деформ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84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– причина изменения скорости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8" descr="3"/>
          <p:cNvPicPr/>
          <p:nvPr/>
        </p:nvPicPr>
        <p:blipFill>
          <a:blip r:embed="rId1"/>
          <a:srcRect l="0" t="21939" r="0" b="1102"/>
          <a:stretch/>
        </p:blipFill>
        <p:spPr>
          <a:xfrm>
            <a:off x="2627280" y="2236680"/>
            <a:ext cx="6516720" cy="4621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Явление тяготения. Сила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7" descr=""/>
          <p:cNvPicPr/>
          <p:nvPr/>
        </p:nvPicPr>
        <p:blipFill>
          <a:blip r:embed="rId2"/>
          <a:srcRect l="34252" t="17035" r="13767" b="5882"/>
          <a:stretch/>
        </p:blipFill>
        <p:spPr>
          <a:xfrm>
            <a:off x="0" y="2133720"/>
            <a:ext cx="3973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{1375512A-1D8C-4492-A2A0-8A9B9E55BB99}"/>
          <p:cNvPicPr/>
          <p:nvPr/>
        </p:nvPicPr>
        <p:blipFill>
          <a:blip r:embed="rId2"/>
          <a:stretch/>
        </p:blipFill>
        <p:spPr>
          <a:xfrm>
            <a:off x="2843280" y="0"/>
            <a:ext cx="3057480" cy="459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"/>
          <p:cNvSpPr/>
          <p:nvPr/>
        </p:nvSpPr>
        <p:spPr>
          <a:xfrm>
            <a:off x="1258920" y="609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76360" y="458136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Исаак Ньютон (1643 – 17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0" y="50911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аак Ньютон сформулировал основные законы классической механики. Открыл закон всемирного тяготения, дал теорию движения небесных тел, создав основы небесной механики. Работы Ньютона намного опередили общий научный уровень е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4SC002"/>
          <p:cNvPicPr/>
          <p:nvPr/>
        </p:nvPicPr>
        <p:blipFill>
          <a:blip r:embed="rId1"/>
          <a:stretch/>
        </p:blipFill>
        <p:spPr>
          <a:xfrm>
            <a:off x="61920" y="603360"/>
            <a:ext cx="4846680" cy="338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755640" y="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Примеры взаимного притяже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qqq"/>
          <p:cNvPicPr/>
          <p:nvPr/>
        </p:nvPicPr>
        <p:blipFill>
          <a:blip r:embed="rId2"/>
          <a:stretch/>
        </p:blipFill>
        <p:spPr>
          <a:xfrm>
            <a:off x="4500720" y="3484440"/>
            <a:ext cx="4646520" cy="33735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61920" y="3330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335560" y="39211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Метеор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proza.ru/pics/2012/07/15/815.jpg"/>
          <p:cNvPicPr/>
          <p:nvPr/>
        </p:nvPicPr>
        <p:blipFill>
          <a:blip r:embed="rId3"/>
          <a:stretch/>
        </p:blipFill>
        <p:spPr>
          <a:xfrm>
            <a:off x="4500720" y="579600"/>
            <a:ext cx="4646520" cy="2943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1"/>
          <p:cNvSpPr/>
          <p:nvPr/>
        </p:nvSpPr>
        <p:spPr>
          <a:xfrm>
            <a:off x="6661080" y="60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s://encrypted-tbn1.gstatic.com/images?q=tbn:ANd9GcTFDU50bNrCI9pM565ynWXCVanSsV6obTPD5LcHGrTqVsKMikaw"/>
          <p:cNvPicPr/>
          <p:nvPr/>
        </p:nvPicPr>
        <p:blipFill>
          <a:blip r:embed="rId4"/>
          <a:stretch/>
        </p:blipFill>
        <p:spPr>
          <a:xfrm>
            <a:off x="61920" y="4010040"/>
            <a:ext cx="4438800" cy="295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82440" y="6100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Искусственный спут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qq"/>
          <p:cNvPicPr/>
          <p:nvPr/>
        </p:nvPicPr>
        <p:blipFill>
          <a:blip r:embed="rId1"/>
          <a:stretch/>
        </p:blipFill>
        <p:spPr>
          <a:xfrm>
            <a:off x="0" y="0"/>
            <a:ext cx="4572000" cy="3684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{CB81405C-BD68-4A6F-AD8B-86C8970B6F67}"/>
          <p:cNvPicPr/>
          <p:nvPr/>
        </p:nvPicPr>
        <p:blipFill>
          <a:blip r:embed="rId2"/>
          <a:stretch/>
        </p:blipFill>
        <p:spPr>
          <a:xfrm>
            <a:off x="4500720" y="3932280"/>
            <a:ext cx="4643280" cy="2925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0" y="4076640"/>
            <a:ext cx="44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тяжение всех тел Вселенной друг к другу называется всемирным тягот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0"/>
            <a:ext cx="4572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, с которой Земля притягивает к себе тело, называется силой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тяжести направлена вертикально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6156360" y="1197000"/>
                <a:ext cx="1503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17928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1187280" y="98280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38:30Z</dcterms:created>
  <dc:creator>1</dc:creator>
  <dc:description/>
  <dc:language>en-US</dc:language>
  <cp:lastModifiedBy>Макаров</cp:lastModifiedBy>
  <dcterms:modified xsi:type="dcterms:W3CDTF">2012-11-20T07:13:41Z</dcterms:modified>
  <cp:revision>76</cp:revision>
  <dc:subject/>
  <dc:title>Слайд 1</dc:title>
</cp:coreProperties>
</file>